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12.jpeg" ContentType="image/jpeg"/>
  <Override PartName="/ppt/media/image7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png" ContentType="image/png"/>
  <Override PartName="/ppt/media/image1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6EAE6-DC84-410C-9E97-6C412E01E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C5D07-4B06-4EFE-AB98-649AF4014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FD3B0-DCD6-4B4C-AACE-8A16BE73F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24B5F-90C4-47BF-9C1C-A7D98B98A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F1AD1-D3D7-4825-B3CD-3096719C5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03E45-6643-49AB-95E7-FD86558E9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60E93-87A5-4D78-98B6-ED482668E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A3B70-C509-4E02-827C-6C74283E4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882AB-797A-4D18-B14C-39CE25D68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104EA-DC45-4723-8479-F2529F7CB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CDC78-DA70-4A0E-82B1-085F36DB4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5D9EF-D4D4-455A-A3BC-F06CCCDEF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DAF60-9AF6-4F78-A908-BE3E737DDF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bluefrontdoor.co.uk/gallery3-pics/dinosaurs-large1.jpg" TargetMode="External"/><Relationship Id="rId2" Type="http://schemas.openxmlformats.org/officeDocument/2006/relationships/image" Target="../media/image16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bluefrontdoor.co.uk/gallery3-pics/dinosaurs-large3.jpg" TargetMode="External"/><Relationship Id="rId2" Type="http://schemas.openxmlformats.org/officeDocument/2006/relationships/image" Target="../media/image7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http://bluefrontdoor.co.uk/gallery3-pics/cartoon-dinosaur.jpg"/>
          <p:cNvPicPr/>
          <p:nvPr/>
        </p:nvPicPr>
        <p:blipFill>
          <a:blip r:embed="rId1"/>
          <a:stretch/>
        </p:blipFill>
        <p:spPr>
          <a:xfrm>
            <a:off x="2209680" y="1066680"/>
            <a:ext cx="4953240" cy="55929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62120" y="2209680"/>
            <a:ext cx="7772400" cy="243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his is the story of Manny the Dinosaur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  <a:ea typeface="宋体"/>
              </a:rPr>
              <a:t>这是恐龙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宋体"/>
              </a:rPr>
              <a:t>Manny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  <a:ea typeface="宋体"/>
              </a:rPr>
              <a:t>的故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Recorded Sound" descr=""/>
          <p:cNvPicPr/>
          <p:nvPr/>
        </p:nvPicPr>
        <p:blipFill>
          <a:blip r:embed="rId2"/>
          <a:stretch/>
        </p:blipFill>
        <p:spPr>
          <a:xfrm>
            <a:off x="-990720" y="33526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5000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5" descr="http://www.totaltravel.com.au/guide/photos/thecoorong/satc_sunset_nat_park.jpg"/>
          <p:cNvPicPr/>
          <p:nvPr/>
        </p:nvPicPr>
        <p:blipFill>
          <a:blip r:embed="rId1"/>
          <a:stretch/>
        </p:blipFill>
        <p:spPr>
          <a:xfrm>
            <a:off x="0" y="0"/>
            <a:ext cx="9144000" cy="814536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rom morning to nigh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Recorded Sound" descr=""/>
          <p:cNvPicPr/>
          <p:nvPr/>
        </p:nvPicPr>
        <p:blipFill>
          <a:blip r:embed="rId2"/>
          <a:stretch/>
        </p:blipFill>
        <p:spPr>
          <a:xfrm>
            <a:off x="-1219320" y="4572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5000" fill="hold"/>
                                        <p:tgtEl>
                                          <p:spTgt spid="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5" descr="http://www.urbanpotato.net/content/photos/normal/Photo_1623.jpg"/>
          <p:cNvPicPr/>
          <p:nvPr/>
        </p:nvPicPr>
        <p:blipFill>
          <a:blip r:embed="rId1"/>
          <a:stretch/>
        </p:blipFill>
        <p:spPr>
          <a:xfrm>
            <a:off x="0" y="0"/>
            <a:ext cx="91584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n the sand he could find many magical thing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Recorded Sound" descr=""/>
          <p:cNvPicPr/>
          <p:nvPr/>
        </p:nvPicPr>
        <p:blipFill>
          <a:blip r:embed="rId2"/>
          <a:stretch/>
        </p:blipFill>
        <p:spPr>
          <a:xfrm>
            <a:off x="-762120" y="33526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7000" fill="hold"/>
                                        <p:tgtEl>
                                          <p:spTgt spid="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5" descr="http://farm4.static.flickr.com/3033/2455213018_853264e71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He found many magical toy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Recorded Sound" descr=""/>
          <p:cNvPicPr/>
          <p:nvPr/>
        </p:nvPicPr>
        <p:blipFill>
          <a:blip r:embed="rId2"/>
          <a:stretch/>
        </p:blipFill>
        <p:spPr>
          <a:xfrm>
            <a:off x="-609480" y="32004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6000" fill="hold"/>
                                        <p:tgtEl>
                                          <p:spTgt spid="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5" descr="http://farm4.static.flickr.com/3033/2455213018_853264e71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But he found mo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Recorded Sound" descr=""/>
          <p:cNvPicPr/>
          <p:nvPr/>
        </p:nvPicPr>
        <p:blipFill>
          <a:blip r:embed="rId2"/>
          <a:stretch/>
        </p:blipFill>
        <p:spPr>
          <a:xfrm>
            <a:off x="-838080" y="34290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" dur="5000" fill="hold"/>
                                        <p:tgtEl>
                                          <p:spTgt spid="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5" descr="http://farm1.static.flickr.com/60/180784604_215c7b471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One day he was digging in the sand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Recorded Sound" descr=""/>
          <p:cNvPicPr/>
          <p:nvPr/>
        </p:nvPicPr>
        <p:blipFill>
          <a:blip r:embed="rId2"/>
          <a:stretch/>
        </p:blipFill>
        <p:spPr>
          <a:xfrm>
            <a:off x="-106668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" dur="6000" fill="hold"/>
                                        <p:tgtEl>
                                          <p:spTgt spid="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5" descr="http://sun4.vaniercollege.qc.ca/international/images/vefa/question-mark-red.png"/>
          <p:cNvPicPr/>
          <p:nvPr/>
        </p:nvPicPr>
        <p:blipFill>
          <a:blip r:embed="rId1"/>
          <a:stretch/>
        </p:blipFill>
        <p:spPr>
          <a:xfrm>
            <a:off x="1219320" y="304920"/>
            <a:ext cx="6248160" cy="624816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He found something he had never seen befo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Recorded Sound" descr=""/>
          <p:cNvPicPr/>
          <p:nvPr/>
        </p:nvPicPr>
        <p:blipFill>
          <a:blip r:embed="rId2"/>
          <a:stretch/>
        </p:blipFill>
        <p:spPr>
          <a:xfrm>
            <a:off x="-1143000" y="3581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" dur="6000" fill="hold"/>
                                        <p:tgtEl>
                                          <p:spTgt spid="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http://bluefrontdoor.co.uk/gallery3-pics/dinosaur1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219320" y="304920"/>
            <a:ext cx="6553080" cy="623412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He found another dinosaur that looked just like him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Recorded Sound" descr=""/>
          <p:cNvPicPr/>
          <p:nvPr/>
        </p:nvPicPr>
        <p:blipFill>
          <a:blip r:embed="rId3"/>
          <a:stretch/>
        </p:blipFill>
        <p:spPr>
          <a:xfrm>
            <a:off x="-990720" y="32767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6" dur="6000" fill="hold"/>
                                        <p:tgtEl>
                                          <p:spTgt spid="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y decided that were twin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Recorded Sound" descr=""/>
          <p:cNvPicPr/>
          <p:nvPr/>
        </p:nvPicPr>
        <p:blipFill>
          <a:blip r:embed="rId1"/>
          <a:stretch/>
        </p:blipFill>
        <p:spPr>
          <a:xfrm>
            <a:off x="-914400" y="32767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" descr="http://www.istockphoto.com/file_thumbview_approve/6345716/2/istockphoto_6345716-twins-hug.jpg"/>
          <p:cNvPicPr/>
          <p:nvPr/>
        </p:nvPicPr>
        <p:blipFill>
          <a:blip r:embed="rId2"/>
          <a:stretch/>
        </p:blipFill>
        <p:spPr>
          <a:xfrm>
            <a:off x="1676520" y="1752480"/>
            <a:ext cx="5638680" cy="375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2" dur="5000" fill="hold"/>
                                        <p:tgtEl>
                                          <p:spTgt spid="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ince that day they have always been togethe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Recorded Sound" descr=""/>
          <p:cNvPicPr/>
          <p:nvPr/>
        </p:nvPicPr>
        <p:blipFill>
          <a:blip r:embed="rId1"/>
          <a:stretch/>
        </p:blipFill>
        <p:spPr>
          <a:xfrm>
            <a:off x="-914400" y="33526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5" descr="http://www.istockphoto.com/file_thumbview_approve/6345716/2/istockphoto_6345716-twins-hug.jpg"/>
          <p:cNvPicPr/>
          <p:nvPr/>
        </p:nvPicPr>
        <p:blipFill>
          <a:blip r:embed="rId2"/>
          <a:stretch/>
        </p:blipFill>
        <p:spPr>
          <a:xfrm>
            <a:off x="1447920" y="1905120"/>
            <a:ext cx="6095880" cy="40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8" dur="6000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5" descr="http://www.lisaannhammond.com/inspiration/images/footprints.jpg"/>
          <p:cNvPicPr/>
          <p:nvPr/>
        </p:nvPicPr>
        <p:blipFill>
          <a:blip r:embed="rId1"/>
          <a:stretch/>
        </p:blipFill>
        <p:spPr>
          <a:xfrm>
            <a:off x="-457200" y="0"/>
            <a:ext cx="10944360" cy="723888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hey went digging in the sand and got lost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Recorded Sound" descr=""/>
          <p:cNvPicPr/>
          <p:nvPr/>
        </p:nvPicPr>
        <p:blipFill>
          <a:blip r:embed="rId2"/>
          <a:stretch/>
        </p:blipFill>
        <p:spPr>
          <a:xfrm>
            <a:off x="-685800" y="3886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4" dur="7000" fill="hold"/>
                                        <p:tgtEl>
                                          <p:spTgt spid="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http://llnw.creamermedia.co.za/articles/images/resized/56721_resized_a_long_time_ago,_in_a_galaxy_far,_far_away.jpg"/>
          <p:cNvPicPr/>
          <p:nvPr/>
        </p:nvPicPr>
        <p:blipFill>
          <a:blip r:embed="rId1"/>
          <a:stretch/>
        </p:blipFill>
        <p:spPr>
          <a:xfrm>
            <a:off x="0" y="-457200"/>
            <a:ext cx="10591920" cy="103600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8229600" cy="239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Calibri"/>
              </a:rPr>
              <a:t>A long long time ago</a:t>
            </a:r>
            <a:r>
              <a:rPr b="0" lang="en-US" sz="36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Calibri"/>
              </a:rPr>
              <a:t>	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0" lang="ja-JP" sz="3600" spc="-1" strike="noStrike">
                <a:solidFill>
                  <a:srgbClr val="ffff00"/>
                </a:solidFill>
                <a:latin typeface="Calibri"/>
                <a:ea typeface="ＭＳ Ｐゴシック"/>
              </a:rPr>
              <a:t>很久一前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Recorded Sound" descr=""/>
          <p:cNvPicPr/>
          <p:nvPr/>
        </p:nvPicPr>
        <p:blipFill>
          <a:blip r:embed="rId2"/>
          <a:stretch/>
        </p:blipFill>
        <p:spPr>
          <a:xfrm>
            <a:off x="-914400" y="32767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3000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5" descr="http://twotzaddiks.org/images/fenced-grave-of-R-Raphael-at-Tarashcha-1997.jpg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hat how is dinosaurs became extinc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Recorded Sound" descr=""/>
          <p:cNvPicPr/>
          <p:nvPr/>
        </p:nvPicPr>
        <p:blipFill>
          <a:blip r:embed="rId2"/>
          <a:stretch/>
        </p:blipFill>
        <p:spPr>
          <a:xfrm>
            <a:off x="-1295280" y="36576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0" dur="7000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http://bluefrontdoor.co.uk/gallery3-pics/cartoon-dinosaur.jpg"/>
          <p:cNvPicPr/>
          <p:nvPr/>
        </p:nvPicPr>
        <p:blipFill>
          <a:blip r:embed="rId1"/>
          <a:stretch/>
        </p:blipFill>
        <p:spPr>
          <a:xfrm>
            <a:off x="2209680" y="762120"/>
            <a:ext cx="5029200" cy="567828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057040"/>
            <a:ext cx="8229600" cy="239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here lived a playful dinosaur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br>
              <a:rPr sz="4400"/>
            </a:br>
            <a:r>
              <a:rPr b="0" lang="zh-CN" sz="3600" spc="-1" strike="noStrike">
                <a:solidFill>
                  <a:srgbClr val="000000"/>
                </a:solidFill>
                <a:latin typeface="Calibri"/>
                <a:ea typeface="宋体"/>
              </a:rPr>
              <a:t>有一个爱游玩的恐龙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Recorded Sound" descr=""/>
          <p:cNvPicPr/>
          <p:nvPr/>
        </p:nvPicPr>
        <p:blipFill>
          <a:blip r:embed="rId2"/>
          <a:stretch/>
        </p:blipFill>
        <p:spPr>
          <a:xfrm>
            <a:off x="-38088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5000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 name was Manny</a:t>
            </a:r>
            <a:br>
              <a:rPr sz="20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Recorded Sound" descr=""/>
          <p:cNvPicPr/>
          <p:nvPr/>
        </p:nvPicPr>
        <p:blipFill>
          <a:blip r:embed="rId1"/>
          <a:stretch/>
        </p:blipFill>
        <p:spPr>
          <a:xfrm>
            <a:off x="-762120" y="40384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http://www.scrapbookinspirationsmagazine.co.uk/resources/scrapbook/Street%20stickers1.png"/>
          <p:cNvPicPr/>
          <p:nvPr/>
        </p:nvPicPr>
        <p:blipFill>
          <a:blip r:embed="rId2"/>
          <a:stretch/>
        </p:blipFill>
        <p:spPr>
          <a:xfrm>
            <a:off x="1905120" y="2438280"/>
            <a:ext cx="5649840" cy="3619800"/>
          </a:xfrm>
          <a:prstGeom prst="rect">
            <a:avLst/>
          </a:prstGeom>
          <a:ln w="0">
            <a:noFill/>
          </a:ln>
        </p:spPr>
      </p:pic>
      <p:pic>
        <p:nvPicPr>
          <p:cNvPr id="53" name="Rectangle 4" descr=""/>
          <p:cNvPicPr/>
          <p:nvPr/>
        </p:nvPicPr>
        <p:blipFill>
          <a:blip r:embed="rId3"/>
          <a:stretch/>
        </p:blipFill>
        <p:spPr>
          <a:xfrm>
            <a:off x="2206800" y="3749760"/>
            <a:ext cx="5016240" cy="113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4000" fill="hold"/>
                                        <p:tgtEl>
                                          <p:spTgt spid="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http://everystockphoto.s3.amazonaws.com/Grass_Green_Manhattan_253107_l.jpg"/>
          <p:cNvPicPr/>
          <p:nvPr/>
        </p:nvPicPr>
        <p:blipFill>
          <a:blip r:embed="rId1"/>
          <a:stretch/>
        </p:blipFill>
        <p:spPr>
          <a:xfrm>
            <a:off x="0" y="0"/>
            <a:ext cx="1092024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anny liked eating gras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Recorded Sound" descr=""/>
          <p:cNvPicPr/>
          <p:nvPr/>
        </p:nvPicPr>
        <p:blipFill>
          <a:blip r:embed="rId2"/>
          <a:stretch/>
        </p:blipFill>
        <p:spPr>
          <a:xfrm>
            <a:off x="-1143000" y="32767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4000" fill="hold"/>
                                        <p:tgtEl>
                                          <p:spTgt spid="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http://bluefrontdoor.co.uk/gallery3-pics/dinosaur3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43000" y="304920"/>
            <a:ext cx="6553080" cy="610236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nny also liked playing with his dinosaur friend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Recorded Sound" descr=""/>
          <p:cNvPicPr/>
          <p:nvPr/>
        </p:nvPicPr>
        <p:blipFill>
          <a:blip r:embed="rId3"/>
          <a:stretch/>
        </p:blipFill>
        <p:spPr>
          <a:xfrm>
            <a:off x="-685800" y="4952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6000" fill="hold"/>
                                        <p:tgtEl>
                                          <p:spTgt spid="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Scenery-Mountains.jpg mountains picture by neckbreaker50"/>
          <p:cNvPicPr/>
          <p:nvPr/>
        </p:nvPicPr>
        <p:blipFill>
          <a:blip r:embed="rId1"/>
          <a:stretch/>
        </p:blipFill>
        <p:spPr>
          <a:xfrm>
            <a:off x="-228600" y="-30492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hey played in the lake and on the mountains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Recorded Sound" descr=""/>
          <p:cNvPicPr/>
          <p:nvPr/>
        </p:nvPicPr>
        <p:blipFill>
          <a:blip r:embed="rId2"/>
          <a:stretch/>
        </p:blipFill>
        <p:spPr>
          <a:xfrm>
            <a:off x="-1371600" y="46483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6000" fill="hold"/>
                                        <p:tgtEl>
                                          <p:spTgt spid="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5" descr="http://zanygallery.com/maui%20white%20sand%20beach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But Manny’s favorite thing to do was to play in the sand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Recorded Sound" descr=""/>
          <p:cNvPicPr/>
          <p:nvPr/>
        </p:nvPicPr>
        <p:blipFill>
          <a:blip r:embed="rId2"/>
          <a:stretch/>
        </p:blipFill>
        <p:spPr>
          <a:xfrm>
            <a:off x="-990720" y="3581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6000" fill="hold"/>
                                        <p:tgtEl>
                                          <p:spTgt spid="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5" descr="http://www.lisaannhammond.com/inspiration/images/footprints.jpg"/>
          <p:cNvPicPr/>
          <p:nvPr/>
        </p:nvPicPr>
        <p:blipFill>
          <a:blip r:embed="rId1"/>
          <a:stretch/>
        </p:blipFill>
        <p:spPr>
          <a:xfrm>
            <a:off x="-304920" y="0"/>
            <a:ext cx="10944360" cy="723888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 would play there every da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Recorded Sound" descr=""/>
          <p:cNvPicPr/>
          <p:nvPr/>
        </p:nvPicPr>
        <p:blipFill>
          <a:blip r:embed="rId2"/>
          <a:stretch/>
        </p:blipFill>
        <p:spPr>
          <a:xfrm>
            <a:off x="-762120" y="32767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5000" fill="hold"/>
                                        <p:tgtEl>
                                          <p:spTgt spid="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6T16:43:30Z</dcterms:created>
  <dc:creator>itsuser</dc:creator>
  <dc:description/>
  <dc:language>en-US</dc:language>
  <cp:lastModifiedBy>itsuser</cp:lastModifiedBy>
  <dcterms:modified xsi:type="dcterms:W3CDTF">2009-05-05T16:02:25Z</dcterms:modified>
  <cp:revision>13</cp:revision>
  <dc:subject/>
  <dc:title>This is the story of Manny the Dinosaur  这是Manny 恐龙的故事</dc:title>
</cp:coreProperties>
</file>